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1B2-0923-4BF4-BCD9-D68B0387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D34-D9B4-47DA-B023-77258506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3D3-6BB6-4732-AEFD-226D800A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288-ACE5-4E82-8EC6-0B0FF695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5E62-EF4F-4F97-BB4B-31E665EA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9707-4618-4529-91A5-FABCB6F5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78FF-FBD6-4E8C-8BD6-6B68C780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4C08-D351-4678-BD9C-3B955283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A57-8BB8-42EF-A830-0020D45B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274B-9F2F-4194-8BA3-64C4D034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149E-5DEE-46A9-A77D-5C9DBD1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2E3-AD9D-4646-97F5-C2E98F6E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27C8-286F-4623-AEC9-657F8498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3E89-B02E-47D5-AA4B-F37DC23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A3FC-78B0-4764-80BB-425BD0B7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77C2-8DD5-43FC-8FC8-D0FFA370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3695-2D06-41F3-9900-A744DE39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5F12-D4A0-46E2-9F1A-BE0C4B4F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6BCC-0B0E-431C-A3D0-0086C003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E174-D2B0-49FC-A292-E7103618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3989-2A66-4EF3-851F-8DE91ED0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1FD7B-E436-4BC4-B458-9F5CAF26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363-D9B9-45C4-8590-40235617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29C11-E496-4E42-90AC-564C8D59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672B-4134-4D44-9E55-F6F5790B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D231-B9D1-4E1D-9854-A9B37E3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391E-2EEE-4A84-8F6D-AFE2F600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EBD8-262A-4DA6-B7E9-8741E408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667D-8D89-4CC7-916B-B35502CC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5214-C5EE-4F1C-883A-4EF526E2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EA0A-4437-4257-9A2F-55DFC8CC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570B-C94B-41F7-9AB5-2523B516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0A39-B7E0-410C-A696-C6317FD2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2AA-44E0-4DFF-B10D-4915F702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C739D-8AAE-4135-8093-508B5C96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6C77-5EE1-496D-AE83-21D9C8E9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84B9-7E4C-4952-A299-E3D938FE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C01E-D345-4254-B686-4720128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205C-22CB-4386-89C3-E496B270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FB59-F3F5-4DA8-836E-B285511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5D586-B458-40A1-8758-D7AB1C5B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261C-64DF-418B-93D8-CF9A3ABC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0C4E3-27B6-4AE6-A19F-5496E312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5F7-B76C-4C9A-99A9-A9F4DD25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844-1896-48FC-A761-DC0E9A54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624-F982-4F34-8208-4C04399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263-622D-4038-B2C8-2E02C203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2AC-4354-46FE-B803-BA72EBC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E0D0-8674-4E1B-88D1-C5611EE7C2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C24D-0FDF-42EA-A64F-F5D451AD492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C5CD-51A8-4F2B-87E3-58F1E017E48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2FD3-E775-4E31-98F5-69A76B0DFD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5" name="Straight Arrow Connector 2"/>
          <p:cNvCxnSpPr/>
          <p:nvPr/>
        </p:nvCxnSpPr>
        <p:spPr>
          <a:xfrm>
            <a:off x="75960" y="3654000"/>
            <a:ext cx="89157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96" name="TextBox 3"/>
          <p:cNvSpPr/>
          <p:nvPr/>
        </p:nvSpPr>
        <p:spPr>
          <a:xfrm>
            <a:off x="990720" y="674640"/>
            <a:ext cx="7238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Waves In Societ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and Educational Technolog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Koh Herlo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-15228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Agricultur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905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dustri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191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formation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6400800" y="2892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Next Ag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-762120" y="38070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8000 B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1447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750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3733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955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182880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26708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reeform 16"/>
          <p:cNvSpPr/>
          <p:nvPr/>
        </p:nvSpPr>
        <p:spPr>
          <a:xfrm>
            <a:off x="6705720" y="3578400"/>
            <a:ext cx="34740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reeform 17"/>
          <p:cNvSpPr/>
          <p:nvPr/>
        </p:nvSpPr>
        <p:spPr>
          <a:xfrm>
            <a:off x="3048120" y="4734000"/>
            <a:ext cx="347400" cy="142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3124080" y="46483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= Denotes not to sc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traight Connector 22"/>
          <p:cNvSpPr/>
          <p:nvPr/>
        </p:nvSpPr>
        <p:spPr>
          <a:xfrm flipH="1">
            <a:off x="472284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traight Connector 23"/>
          <p:cNvSpPr/>
          <p:nvPr/>
        </p:nvSpPr>
        <p:spPr>
          <a:xfrm flipH="1">
            <a:off x="24379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traight Connector 24"/>
          <p:cNvSpPr/>
          <p:nvPr/>
        </p:nvSpPr>
        <p:spPr>
          <a:xfrm flipH="1">
            <a:off x="22860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5"/>
          <p:cNvSpPr/>
          <p:nvPr/>
        </p:nvSpPr>
        <p:spPr>
          <a:xfrm flipH="1">
            <a:off x="72385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26"/>
          <p:cNvSpPr/>
          <p:nvPr/>
        </p:nvSpPr>
        <p:spPr>
          <a:xfrm>
            <a:off x="6248520" y="38070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ee comment in Wik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533520" y="594360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ource:  Toffler, A. (1980). The Third Wave. Bantam Books, Inc., Random House Inc. New York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18:56Z</dcterms:created>
  <dc:creator>Koh</dc:creator>
  <dc:description/>
  <dc:language>en-US</dc:language>
  <cp:lastModifiedBy>Koh</cp:lastModifiedBy>
  <dcterms:modified xsi:type="dcterms:W3CDTF">2009-03-19T15:49:04Z</dcterms:modified>
  <cp:revision>17</cp:revision>
  <dc:subject/>
  <dc:title>Slide 1</dc:title>
</cp:coreProperties>
</file>