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709-9D08-4039-9FDA-4C2CC14B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7FE-B7F0-4D9C-84EC-F20A130E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725-4803-4AC2-8D34-124C9293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4A1-5F01-4F6F-85E6-0D63BCA4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E0E-68D6-4AE0-A95D-22DEDAD8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C453-A142-4043-ABA5-8CD56383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5F18-4660-4319-9B0C-840B6E94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CB8A-7D49-444E-B95E-F41F0981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873C-231E-460B-8A3A-0EB05DB8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C0B4-BA42-414E-B496-2DA5E7E7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9262-84AF-41E5-A7A9-2EFF90EE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2CB-37F0-4A3B-A909-2C7493FA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2147-DE74-4670-89B7-EB595F1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0C2C-C44C-4CE3-995C-051C7BF1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7E23-765E-4D78-9F6E-31147C21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52B6-544F-40F2-B715-D811B015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2248-B1FE-40A0-AA5C-BAD4344A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6B16-6C60-47D4-B834-00277CAC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3023-B302-4544-AE8C-13281E2D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DFDE-00D6-4325-8707-AB9A0E62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87CB-FF41-4DFE-9F09-1F3BC40C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C6C8-0C0A-4FB4-80DF-9469D1DB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F5F-4F24-45AD-B5F9-56A66D63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51B7-C4FB-4704-8319-BD464408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C5AE-B802-486B-8832-430245F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92E1-9CB9-418D-B782-399FFF54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6A53-CB63-4906-BF65-AF627F43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6367-AF99-43DF-A9AF-8A54FCAF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0098-45D5-4F5F-B6F0-A7DF9615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4401-7B97-4969-AEF3-D1DFAE2C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4A30-74D7-4874-9EAC-066B7D3A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DD75-01FB-462B-9C33-EF16BB08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059F-6D09-488F-AE09-CF8389CF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E9B-4910-4D91-BBDB-0C88D4C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E04B-9530-4B77-AB49-D863AAF2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36CF-4D0C-4628-ADC9-A90F1903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DC7B-0AD5-4B72-AD4D-AB7D1E25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43280-65CF-4845-BF2F-E655E50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0D17-B450-4904-87E9-6943058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9D56-B5C3-44B7-AB62-9881E9D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60819-F8CA-436F-B51D-E3C9B5F9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D2988-E34F-4F82-8DDC-6FBC87D6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D76A-126F-43DE-A815-41FAC1CF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D65-ADAF-44E3-9E40-5837D918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C06-A7A5-4914-A6E1-B6989E45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716-8C18-488F-B711-9A01EB07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020-9815-4F41-964C-A374569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8C8-B1C8-4146-8779-54BC4DC2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FAE6-8405-47FA-95E8-AF741B1227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8BE3-5F0C-4EA0-BF73-7806BECBF21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A016-50A1-47C3-8EDE-56430E7033F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0CE6-3373-4D4E-9306-711E2ABE6F3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5" name="Straight Arrow Connector 2"/>
          <p:cNvCxnSpPr/>
          <p:nvPr/>
        </p:nvCxnSpPr>
        <p:spPr>
          <a:xfrm>
            <a:off x="75960" y="3654000"/>
            <a:ext cx="89157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96" name="TextBox 3"/>
          <p:cNvSpPr/>
          <p:nvPr/>
        </p:nvSpPr>
        <p:spPr>
          <a:xfrm>
            <a:off x="990720" y="674640"/>
            <a:ext cx="7238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Waves In Societ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and Educational Technolog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Koh Herlo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-15228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Agricultur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905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dustri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191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formation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6400800" y="2892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Next Ag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-762120" y="38070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8000 B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1447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750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3733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955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182880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26708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reeform 16"/>
          <p:cNvSpPr/>
          <p:nvPr/>
        </p:nvSpPr>
        <p:spPr>
          <a:xfrm>
            <a:off x="6705720" y="3578400"/>
            <a:ext cx="34740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reeform 17"/>
          <p:cNvSpPr/>
          <p:nvPr/>
        </p:nvSpPr>
        <p:spPr>
          <a:xfrm>
            <a:off x="3048120" y="4734000"/>
            <a:ext cx="347400" cy="142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3124080" y="46483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= Denotes not to sc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traight Connector 22"/>
          <p:cNvSpPr/>
          <p:nvPr/>
        </p:nvSpPr>
        <p:spPr>
          <a:xfrm flipH="1">
            <a:off x="472284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traight Connector 23"/>
          <p:cNvSpPr/>
          <p:nvPr/>
        </p:nvSpPr>
        <p:spPr>
          <a:xfrm flipH="1">
            <a:off x="24379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traight Connector 24"/>
          <p:cNvSpPr/>
          <p:nvPr/>
        </p:nvSpPr>
        <p:spPr>
          <a:xfrm flipH="1">
            <a:off x="22860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5"/>
          <p:cNvSpPr/>
          <p:nvPr/>
        </p:nvSpPr>
        <p:spPr>
          <a:xfrm flipH="1">
            <a:off x="72385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26"/>
          <p:cNvSpPr/>
          <p:nvPr/>
        </p:nvSpPr>
        <p:spPr>
          <a:xfrm>
            <a:off x="6248520" y="38070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ee comment in Wik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533520" y="594360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ource:  Toffler, A. (1980). The Third Wave. Bantam Books, Inc., Random House Inc. New York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18:56Z</dcterms:created>
  <dc:creator>Koh</dc:creator>
  <dc:description/>
  <dc:language>en-US</dc:language>
  <cp:lastModifiedBy>Koh</cp:lastModifiedBy>
  <dcterms:modified xsi:type="dcterms:W3CDTF">2009-03-19T15:49:04Z</dcterms:modified>
  <cp:revision>17</cp:revision>
  <dc:subject/>
  <dc:title>Slide 1</dc:title>
</cp:coreProperties>
</file>