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DB4-751B-440F-BF67-A2A30BC6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561-AB5C-45C8-81EA-C3366A09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E0A-8991-456F-B04A-8A2F0E7C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D4B-E8C9-4583-9E38-F158E2C9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CD6F-43E7-4460-AAF0-5CC43DBB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0E8C-AEBA-49AF-82DC-6A71ADC1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7F56-9957-4597-8C4F-980A9A75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2FDD-E69A-41E4-A057-DBEF3DA1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5D94-ACC6-422B-B341-CA8B65E8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49BF-D709-4736-AB29-83E42604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3233-0AE4-4EFD-84C4-8306D246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444-A5AF-4EF4-8E12-7F589130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882D-4182-4605-BB49-1519AAAC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6EEA-C5CD-42AD-AF4D-B09D4C9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2EEF-0740-4D7A-8584-45432560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DD6-627B-43A2-8D98-E030EEF4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EA7B-7C25-459E-BBD8-56C2B281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70F2-9B6D-4A55-B380-20DF7188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CD6B-9065-4477-AF32-487E6A2A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F617-9F5A-4621-88B8-7B8C966B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A691-C114-41B7-801A-847C4029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47AC-8CD8-4A09-838C-6C542C5F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C74-A0FD-4573-A97A-41D45418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3CE8-6165-4AB2-8B8F-32851648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FDF6-A425-46FC-B333-B741B5D5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D207-4B83-4454-879D-1BD61EFA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E822-B48E-4AC1-9CA0-C1422405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7969-1E76-4035-B084-4CC4412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A2B9-A088-4CE8-8B61-2962D93E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954A-C47E-410F-AB80-A75A1445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4B83F-3187-4396-8AB8-141DC833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A5D70-6F48-4417-986E-6F303F49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F5C41-E490-4E5A-B97C-D44C50E5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0B9-06A9-4F0A-86A8-6430C060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3616-4642-4A5D-A69F-A4B1DD5B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3EA43-F88F-4A80-B6DF-1291D9A4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53F3F-CDED-4DE3-9F4B-C0DC1C1E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97E6-A239-457E-9C4C-17D59009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11698-3E15-48DD-BA35-7F41F382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7F21-CBEB-45E6-B636-EFA35A88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52FCF-9EC9-4962-A1DC-7406CE9F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8D1A-7D1C-4918-915C-9CCB33D1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67D47-8F3F-47DC-872A-DD2A1D34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15C-12CF-4F78-A093-F5BE9747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09C-C933-48DA-831A-76D1D02D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6FD-911D-4A17-9DB5-E0855F9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967-D1D0-4686-B85C-379ABFFA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829-6FF0-4F57-A0E1-B9D66D6C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BFB8-46D9-49A1-B7D9-E657A215D30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D155-5970-4367-85B5-31E1D4C0127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C880-BC36-479B-8003-061861BCC7E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C01B-2C68-42BA-A15C-3601BEEFD02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5" name="Straight Arrow Connector 2"/>
          <p:cNvCxnSpPr/>
          <p:nvPr/>
        </p:nvCxnSpPr>
        <p:spPr>
          <a:xfrm>
            <a:off x="75960" y="3654000"/>
            <a:ext cx="89157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96" name="TextBox 3"/>
          <p:cNvSpPr/>
          <p:nvPr/>
        </p:nvSpPr>
        <p:spPr>
          <a:xfrm>
            <a:off x="990720" y="674640"/>
            <a:ext cx="7238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Waves In Society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and Educational Technolog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Koh Herlo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-15228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Agricultur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1905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dustri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191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formation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6400800" y="2892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Next Ag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-762120" y="38070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8000 B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1447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750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3733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955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182880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426708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Freeform 16"/>
          <p:cNvSpPr/>
          <p:nvPr/>
        </p:nvSpPr>
        <p:spPr>
          <a:xfrm>
            <a:off x="6705720" y="3578400"/>
            <a:ext cx="34740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Freeform 17"/>
          <p:cNvSpPr/>
          <p:nvPr/>
        </p:nvSpPr>
        <p:spPr>
          <a:xfrm>
            <a:off x="3048120" y="4734000"/>
            <a:ext cx="347400" cy="142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3124080" y="46483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= Denotes not to sc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traight Connector 22"/>
          <p:cNvSpPr/>
          <p:nvPr/>
        </p:nvSpPr>
        <p:spPr>
          <a:xfrm flipH="1">
            <a:off x="472284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traight Connector 23"/>
          <p:cNvSpPr/>
          <p:nvPr/>
        </p:nvSpPr>
        <p:spPr>
          <a:xfrm flipH="1">
            <a:off x="24379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traight Connector 24"/>
          <p:cNvSpPr/>
          <p:nvPr/>
        </p:nvSpPr>
        <p:spPr>
          <a:xfrm flipH="1">
            <a:off x="22860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traight Connector 25"/>
          <p:cNvSpPr/>
          <p:nvPr/>
        </p:nvSpPr>
        <p:spPr>
          <a:xfrm flipH="1">
            <a:off x="72385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26"/>
          <p:cNvSpPr/>
          <p:nvPr/>
        </p:nvSpPr>
        <p:spPr>
          <a:xfrm>
            <a:off x="6248520" y="38070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ee comment in Wik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533520" y="594360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ource:  Toffler, A. (1980). The Third Wave. Bantam Books, Inc., Random House Inc. New York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18:56Z</dcterms:created>
  <dc:creator>Koh</dc:creator>
  <dc:description/>
  <dc:language>en-US</dc:language>
  <cp:lastModifiedBy>Koh</cp:lastModifiedBy>
  <dcterms:modified xsi:type="dcterms:W3CDTF">2009-03-19T15:49:04Z</dcterms:modified>
  <cp:revision>17</cp:revision>
  <dc:subject/>
  <dc:title>Slide 1</dc:title>
</cp:coreProperties>
</file>