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6863-6817-4CBC-A936-40186B55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68D-EB0F-4B7E-8BC1-C8646F2F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F90-C2FE-4C3E-91AF-94FA0013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5EB-D128-4CAD-B710-8586C62D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BC42-F89D-4E23-8C4D-E3005581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2E91-172B-4BB8-A3FC-A7EE9F81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CCAA-8FBA-49F0-BA0E-7350BB07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1067-46C7-440C-8C87-4983361A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44D1-7F13-43D4-A7F8-27D9C6AC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D49B-3819-4329-ABAE-7ED8A22D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116F-96F5-4858-A944-9B84A3A6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ED45-5A69-442F-AFC6-2978D46B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DDA7-C620-4156-B70A-495C622C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515E-057B-423F-9A0F-88E2EDB0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D79F-1BB1-4402-9FAB-75108156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47B6-DCDC-43CA-BF7F-C43AC684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0EE1-E519-442F-847F-44260E97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C53B-E9BB-4C2B-9524-CA01D82F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DABF4-6AED-4123-9094-C5F5A001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7D6E8-520E-42F7-9DDD-6739B565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03281-ECC4-402A-95B8-DF46DE72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2425C-24AC-411C-89AE-BBDD9E2F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E74-5B43-4CD1-B467-55BF4F99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41580-2BDB-44FC-822C-83A18B34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E1F5-569E-4710-ABA4-A1B0B2E2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A8488-1629-4143-9E22-0AB18F90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2FF38-CB45-41EB-87D2-377463E3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F6E5-4B97-41D9-B755-670E61C5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8F619-9B5E-4DB4-8629-3E3A1AED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F2E0C-025A-4995-8086-19A216CF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ED6A2-57F0-4F7F-B996-1E05990C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65BC1-0366-4366-97C9-92F01A9C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54EF0-F80A-48BB-B5FB-D2DAD892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C82-B13C-49BC-9019-334DD3CD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1FA19-C7F3-4E46-BCE8-B11DA92B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A7ED5-15B8-4BDD-B1BB-D30B1442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13F1F-5CEC-495D-AF2F-5105F9C4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2AAA4-8EE2-4D28-BCAD-4359D6D6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6304B-694D-4363-BB8D-35886615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D7606-B4A9-4125-A36C-2923BEB7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5252A-718E-4EA1-8D70-7D94795B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AFCFC-5E47-4448-B04A-B1D14314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20BB7-124E-4BDE-81EF-9BD7B0CD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134-670F-49B4-A962-FD614DA0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9C3B-84FE-4D0D-96C7-F6933779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E60-017E-466A-A8E8-B068EBEB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D87-2F38-419B-9B58-AD36A470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00D-1C39-4FC1-B32E-87170FC9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329F-D9D1-46DC-909C-8E49A174B59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3863-DEFA-4081-A3CE-E1DC3860017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DCFE-3AE3-48E6-BDD1-79E3C18271B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7730-F128-44D9-8444-9E7F1AF2D82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5" name="Straight Arrow Connector 2"/>
          <p:cNvCxnSpPr/>
          <p:nvPr/>
        </p:nvCxnSpPr>
        <p:spPr>
          <a:xfrm>
            <a:off x="75960" y="3654000"/>
            <a:ext cx="891576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96" name="TextBox 3"/>
          <p:cNvSpPr/>
          <p:nvPr/>
        </p:nvSpPr>
        <p:spPr>
          <a:xfrm>
            <a:off x="990720" y="674640"/>
            <a:ext cx="7238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Waves In Society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and Educational Technolog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Koh Herlo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-15228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Agricultural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190512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Industrial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419112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Information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6400800" y="2892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Next Ag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-762120" y="38070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8000 BC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1447920" y="380376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1750 A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3733920" y="380376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1955 A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Freeform 14"/>
          <p:cNvSpPr/>
          <p:nvPr/>
        </p:nvSpPr>
        <p:spPr>
          <a:xfrm>
            <a:off x="1828800" y="3578400"/>
            <a:ext cx="34776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Freeform 15"/>
          <p:cNvSpPr/>
          <p:nvPr/>
        </p:nvSpPr>
        <p:spPr>
          <a:xfrm>
            <a:off x="4267080" y="3578400"/>
            <a:ext cx="34776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Freeform 16"/>
          <p:cNvSpPr/>
          <p:nvPr/>
        </p:nvSpPr>
        <p:spPr>
          <a:xfrm>
            <a:off x="6705720" y="3578400"/>
            <a:ext cx="34740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Freeform 17"/>
          <p:cNvSpPr/>
          <p:nvPr/>
        </p:nvSpPr>
        <p:spPr>
          <a:xfrm>
            <a:off x="3048120" y="4734000"/>
            <a:ext cx="347400" cy="142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18"/>
          <p:cNvSpPr/>
          <p:nvPr/>
        </p:nvSpPr>
        <p:spPr>
          <a:xfrm>
            <a:off x="3124080" y="464832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= Denotes not to scal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traight Connector 22"/>
          <p:cNvSpPr/>
          <p:nvPr/>
        </p:nvSpPr>
        <p:spPr>
          <a:xfrm flipH="1">
            <a:off x="4722840" y="3654360"/>
            <a:ext cx="144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Straight Connector 23"/>
          <p:cNvSpPr/>
          <p:nvPr/>
        </p:nvSpPr>
        <p:spPr>
          <a:xfrm flipH="1">
            <a:off x="2437920" y="3654360"/>
            <a:ext cx="180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traight Connector 24"/>
          <p:cNvSpPr/>
          <p:nvPr/>
        </p:nvSpPr>
        <p:spPr>
          <a:xfrm flipH="1">
            <a:off x="228600" y="3654360"/>
            <a:ext cx="144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traight Connector 25"/>
          <p:cNvSpPr/>
          <p:nvPr/>
        </p:nvSpPr>
        <p:spPr>
          <a:xfrm flipH="1">
            <a:off x="7238520" y="3654360"/>
            <a:ext cx="180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Box 26"/>
          <p:cNvSpPr/>
          <p:nvPr/>
        </p:nvSpPr>
        <p:spPr>
          <a:xfrm>
            <a:off x="6248520" y="38070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See comment in Wik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27"/>
          <p:cNvSpPr/>
          <p:nvPr/>
        </p:nvSpPr>
        <p:spPr>
          <a:xfrm>
            <a:off x="533520" y="594360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Source:  Toffler, A. (1980). The Third Wave. Bantam Books, Inc., Random House Inc. New York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18:56Z</dcterms:created>
  <dc:creator>Koh</dc:creator>
  <dc:description/>
  <dc:language>en-US</dc:language>
  <cp:lastModifiedBy>Koh</cp:lastModifiedBy>
  <dcterms:modified xsi:type="dcterms:W3CDTF">2009-03-19T15:49:04Z</dcterms:modified>
  <cp:revision>17</cp:revision>
  <dc:subject/>
  <dc:title>Slide 1</dc:title>
</cp:coreProperties>
</file>