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A26-8B91-4554-9B8F-66A520B7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DD5-47C8-4A9E-886C-DA81C1C0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0E9-55E7-44B7-A713-2D2F494F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3FA-C852-481B-91B8-B3A4ED91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EDC-94C5-4EE3-A81E-C9011FD6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1AB-E682-44A8-9155-7A52A82C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F45-A713-44EB-A965-2C07FDC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F14-B970-4FCF-9408-DBDC13D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09C4-6C3A-4944-B1BE-09ED2FD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F6DC-3987-49AB-AFEF-E964D627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5311-5C87-4D02-93D5-4853BBD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491-D1DB-4BB3-9485-03F0239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1404-5F92-4337-8AF4-E69A3D0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743A-3F3F-4A68-874C-0208EE88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0AC8-AEA7-47C0-9275-9EA21CA7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598-F089-4239-8919-F22E67F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2A19-A773-47C4-91C7-411FD52F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56F3-B38A-446E-AF0F-E6B29DE5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4E7D-879F-4F2A-AD28-0CB71E6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9AB3-5CF7-4A84-BCA0-6D05466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1E38-E422-4987-89F0-8A4B4D57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A1E3-D766-4D48-B1FA-374662A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289-A1A9-4CF6-A847-41DD378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45E5-1C29-4CE8-AB41-646A14CF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6481-B058-4049-9758-9198707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5CA0-A0E6-47FD-AA03-7746967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B9DE-8384-4894-A791-1D07DB8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09FA-FD8D-4316-BBAB-9186F86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2B4E-BC04-4056-9CCF-6E675B4F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224D-E859-43D8-888E-D0B043C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FB00-6B27-4CBC-A245-10A78E67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561A-D5A5-47E1-B969-47F3ED3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8A76-3F7C-4C7A-B36D-E73EFDE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47C-7A6D-471F-AC3C-CC21C32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7D94-BF3D-47C0-BE5F-5E94161A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B670-7859-4BED-8E70-297CA8AC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F932-32F8-46C4-83D9-1FB5DC3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1083-9983-43E5-9872-B9D30B9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A9A3-C697-49B0-B8B9-2F5D31B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BEE8-CBA8-4CDB-A6BE-9C72409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0D59-7C34-4083-8AE1-1B9C83D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ED4A-4EC4-48CE-9060-33534312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9781-3F72-453A-B881-8CDF1150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24B-10E0-4BCD-BB99-4FF2B7E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B0A-760D-4BA3-8EDD-85217A8C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7F6-F7EA-4B40-A37C-7FF5523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4AE-BA01-472C-BBCD-D31B479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F1E-800F-4C8C-951B-3FEA859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622-32AE-4259-8DAD-486F455193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5D1-4734-4570-BA3E-37909B95D4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ED2-D44E-4BD3-9EC0-818FA578CC8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7E8-26AB-43AF-9F09-11237B53FA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Straight Arrow Connector 2"/>
          <p:cNvCxnSpPr/>
          <p:nvPr/>
        </p:nvCxnSpPr>
        <p:spPr>
          <a:xfrm>
            <a:off x="75960" y="3654000"/>
            <a:ext cx="89157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96" name="TextBox 3"/>
          <p:cNvSpPr/>
          <p:nvPr/>
        </p:nvSpPr>
        <p:spPr>
          <a:xfrm>
            <a:off x="990720" y="674640"/>
            <a:ext cx="7238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Waves In Societ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and Educational Technolog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Koh Herlo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-15228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Agricultur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905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dustrial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191120" y="2873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nformation 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6400800" y="289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Next Ag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-762120" y="380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000 B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1447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750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3733920" y="380376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955 A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182880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267080" y="3578400"/>
            <a:ext cx="34776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reeform 16"/>
          <p:cNvSpPr/>
          <p:nvPr/>
        </p:nvSpPr>
        <p:spPr>
          <a:xfrm>
            <a:off x="6705720" y="3578400"/>
            <a:ext cx="347400" cy="1425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reeform 17"/>
          <p:cNvSpPr/>
          <p:nvPr/>
        </p:nvSpPr>
        <p:spPr>
          <a:xfrm>
            <a:off x="3048120" y="4734000"/>
            <a:ext cx="347400" cy="142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3124080" y="464832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= Denotes not to sc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traight Connector 22"/>
          <p:cNvSpPr/>
          <p:nvPr/>
        </p:nvSpPr>
        <p:spPr>
          <a:xfrm flipH="1">
            <a:off x="472284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traight Connector 23"/>
          <p:cNvSpPr/>
          <p:nvPr/>
        </p:nvSpPr>
        <p:spPr>
          <a:xfrm flipH="1">
            <a:off x="24379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traight Connector 24"/>
          <p:cNvSpPr/>
          <p:nvPr/>
        </p:nvSpPr>
        <p:spPr>
          <a:xfrm flipH="1">
            <a:off x="228600" y="3654360"/>
            <a:ext cx="144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5"/>
          <p:cNvSpPr/>
          <p:nvPr/>
        </p:nvSpPr>
        <p:spPr>
          <a:xfrm flipH="1">
            <a:off x="7238520" y="3654360"/>
            <a:ext cx="1800" cy="152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26"/>
          <p:cNvSpPr/>
          <p:nvPr/>
        </p:nvSpPr>
        <p:spPr>
          <a:xfrm>
            <a:off x="6248520" y="38070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ee comment in Wi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33520" y="59436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ource:  Toffler, A. (1980). The Third Wave. Bantam Books, Inc., Random House Inc. New York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8:56Z</dcterms:created>
  <dc:creator>Koh</dc:creator>
  <dc:description/>
  <dc:language>en-US</dc:language>
  <cp:lastModifiedBy>Koh</cp:lastModifiedBy>
  <dcterms:modified xsi:type="dcterms:W3CDTF">2009-03-19T15:49:04Z</dcterms:modified>
  <cp:revision>17</cp:revision>
  <dc:subject/>
  <dc:title>Slide 1</dc:title>
</cp:coreProperties>
</file>